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023117"/>
        <c:axId val="44606132"/>
      </c:barChart>
      <c:catAx>
        <c:axId val="250231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06132"/>
        <c:crosses val="autoZero"/>
        <c:auto val="1"/>
        <c:lblAlgn val="ctr"/>
        <c:lblOffset val="100"/>
        <c:noMultiLvlLbl val="0"/>
      </c:catAx>
      <c:valAx>
        <c:axId val="446061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0231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347B-7187-4C5B-887B-D8810369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6644-D732-4B72-956F-C9F50195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9CCD-3288-4FF1-9992-2F62950F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1A1C-3BD3-43F0-BAFA-A9859FBB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347C-6A6C-43FB-B8F4-05C06344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8832-C62D-46B7-9AB1-A489642A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40D1-1698-4F97-9EC3-A6C434B1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7625-473C-471E-9CCF-3E86155D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14EF-5C2F-42DB-A1DA-86667F2A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14A4-DC8F-4C3F-B328-D7E42FCA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45C2-57D8-458C-ACF8-F3D800EA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96BC-A3A8-4347-B13A-0C52090E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37CA6-104C-4653-A715-9E696425C3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