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61733"/>
        <c:axId val="57372987"/>
      </c:barChart>
      <c:catAx>
        <c:axId val="92361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72987"/>
        <c:crosses val="autoZero"/>
        <c:auto val="1"/>
        <c:lblAlgn val="ctr"/>
        <c:lblOffset val="100"/>
        <c:noMultiLvlLbl val="0"/>
      </c:catAx>
      <c:valAx>
        <c:axId val="57372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61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C21-257D-4A01-B308-CF30298E5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936C-ABE5-46CA-89D0-163FA81C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14E-6138-4C1B-BCD3-1D142ABC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DA9A-ECE6-4655-9875-9464AD29A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4D25-FFD4-49E6-BA52-F860241F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B0EB-7491-4610-834A-BAB101BE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0C2-592F-4250-9040-2B7BD5442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342-E88C-4894-ACB3-B8B0A718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73F-350D-409C-8AC7-ACC5C04B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73F-A980-4907-AF76-F9BD399C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A3F8-B5BE-4502-A216-3C4111B8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B92E-61B5-473C-AFB9-8DAEE5BD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B5424-C160-479C-ABFF-02CEF68342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